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70EE-3E64-4926-B083-F7C9FF73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We create a generic one for teachers to do as a group so that they will have something to walk away with in their tr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 this as guided practice:  Ask teachers to identify concepts in one of the ob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do this on chart paper with a partner. We will need to bring chart paper, markers, copies of the standard course of study. Maybe we can also give them a copy of Lynn’s list of Social Studies Concepts. (It is on page 47 of the powerpoint slide packet she gave 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text page- Click to add title and text accord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text page- Click to add title and text accord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text page- Click to add title and text accord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54D-3072-4F09-A965-96D3A728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B70-84D1-40D6-8D65-93D98B91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2E5-6587-42F3-972B-1A101552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107-E282-4910-990D-2EDFEF62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CA2-11E7-48C3-9FC9-C0FFE2FA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CB7-4934-49FA-9254-B805F7CD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71E-E262-4E59-B675-460402D1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A3D-93FD-4438-8107-93CBCACD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AB2-9B24-401E-8EB5-541AF01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83D-B7BB-43C5-B91B-DC3D682E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E42-67ED-4207-B92E-2EA31E03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806-0AF2-47D6-B463-61A5F6B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A23A-3F8B-4FE6-B2D1-DF85D93F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84200" y="255600"/>
            <a:ext cx="8175600" cy="3729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Identifying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828800"/>
          <a:ext cx="4038480" cy="4206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6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Standard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Your original list of topic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702720" y="609480"/>
            <a:ext cx="84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orkshop direction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e by first selecting a standard that you like and/or are comfortable working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the standard you have selected to make a list of all the topics that you believe a stu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uld know relating to that standard once that standard has been tau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876920" y="1828800"/>
          <a:ext cx="4038480" cy="4206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6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Standard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Your original list of topic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Conce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7"/>
          <p:cNvGraphicFramePr/>
          <p:nvPr/>
        </p:nvGraphicFramePr>
        <p:xfrm>
          <a:off x="152280" y="1676520"/>
          <a:ext cx="2827440" cy="44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76520"/>
                    <a:ext cx="2827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048120" y="4724280"/>
            <a:ext cx="5562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10480" y="4572000"/>
            <a:ext cx="35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3886200"/>
            <a:ext cx="6089040" cy="759240"/>
            <a:chOff x="3048120" y="3886200"/>
            <a:chExt cx="6089040" cy="759240"/>
          </a:xfrm>
        </p:grpSpPr>
        <p:sp>
          <p:nvSpPr>
            <p:cNvPr id="59" name=""/>
            <p:cNvSpPr/>
            <p:nvPr/>
          </p:nvSpPr>
          <p:spPr>
            <a:xfrm>
              <a:off x="3048120" y="4114800"/>
              <a:ext cx="1407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8880" y="4114800"/>
              <a:ext cx="13248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46840" y="4114800"/>
              <a:ext cx="1325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54800" y="4114800"/>
              <a:ext cx="12423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8675280" y="3886200"/>
              <a:ext cx="4618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3366"/>
                  </a:solidFill>
                  <a:latin typeface="Times New Roman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5"/>
          <p:cNvSpPr/>
          <p:nvPr/>
        </p:nvSpPr>
        <p:spPr>
          <a:xfrm>
            <a:off x="8682840" y="2209680"/>
            <a:ext cx="4618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Times New Roman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905120"/>
            <a:ext cx="5562360" cy="181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understands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52578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vel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lization use one of the following verbs: affects, impacts, influences, is/are/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14720" y="338400"/>
            <a:ext cx="8314560" cy="465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e Writing a Level I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772400" y="0"/>
            <a:ext cx="1020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9120" y="353160"/>
            <a:ext cx="8285760" cy="66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Practice Writing Level II Gener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276720"/>
            <a:ext cx="81532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ffold up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 you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then ask yourself “how?” or “wh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answer the question “how?” or “why?” you can then come up with a statement that explains the “how?” or “why?” of your level I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new statement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Tw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84280"/>
            <a:ext cx="8153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you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liz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ne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14720" y="262440"/>
            <a:ext cx="8314560" cy="4658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More Practice Writing Level II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61760" y="2819160"/>
            <a:ext cx="784836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ffold up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 you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then ask yourself “how?” or “wh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answer the question “how?” or “why?” you can then come up with a statement that explains the “how?” or “why?” of your level I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new statement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Two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914400"/>
            <a:ext cx="7848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vel 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ati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51460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15:11:45Z</dcterms:created>
  <dc:creator>jmcinnis</dc:creator>
  <dc:description/>
  <dc:language>en-US</dc:language>
  <cp:lastModifiedBy>jmcinnis</cp:lastModifiedBy>
  <dcterms:modified xsi:type="dcterms:W3CDTF">2008-07-11T19:52:45Z</dcterms:modified>
  <cp:revision>5</cp:revision>
  <dc:subject/>
  <dc:title>Identifying Concepts</dc:title>
</cp:coreProperties>
</file>